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C12-F0F8-4377-9D38-463D86E2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78C-33B8-4AC9-AD31-EA867409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2D0-0FD3-4FAC-ABCE-0A8F25D7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02F-3515-4D2B-AF3D-90ED3EEC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383-B755-4FDD-9A45-116EAA71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A98-3339-4ECF-871A-E78CC5A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8AD-7FB0-48DF-BD44-F417870B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484-D46F-4D04-B902-B204954C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3FD-4775-48DB-8F1F-A57FFDC9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B0F-904A-45F0-A0AB-8349F21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C19-61F9-414C-9DC2-CF130E7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290-4336-4D73-88CA-2C0E4AD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A049-274B-4F82-A510-6065F3D39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8a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"/>
          <p:cNvPicPr/>
          <p:nvPr/>
        </p:nvPicPr>
        <p:blipFill>
          <a:blip r:embed="rId1"/>
          <a:stretch/>
        </p:blipFill>
        <p:spPr>
          <a:xfrm>
            <a:off x="0" y="4714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"/>
          <p:cNvPicPr/>
          <p:nvPr/>
        </p:nvPicPr>
        <p:blipFill>
          <a:blip r:embed="rId2"/>
          <a:stretch/>
        </p:blipFill>
        <p:spPr>
          <a:xfrm>
            <a:off x="4114800" y="4653000"/>
            <a:ext cx="5029200" cy="2205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200400" y="380880"/>
            <a:ext cx="2209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ghani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war filled and flighty country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133720" y="2666880"/>
            <a:ext cx="4267080" cy="2837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rty re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Ka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 Persian, Pash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99% Muslim, 1%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28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gas, petroleum, coal, copper, sulfur, lead, zinc, iron ore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7057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im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248520" y="4191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295596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5"/>
          <a:stretch/>
        </p:blipFill>
        <p:spPr>
          <a:xfrm>
            <a:off x="0" y="2666880"/>
            <a:ext cx="2133720" cy="17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6"/>
          <a:stretch/>
        </p:blipFill>
        <p:spPr>
          <a:xfrm>
            <a:off x="6324480" y="2514600"/>
            <a:ext cx="28195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17T20:42:38Z</dcterms:modified>
  <cp:revision>11</cp:revision>
  <dc:subject/>
  <dc:title>Slide 1</dc:title>
</cp:coreProperties>
</file>